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1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e d’appl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nctionnement de la messagerie SM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25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 du bloc SM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28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nctionnement d’un environnement 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576520"/>
            <a:ext cx="9144000" cy="25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deurs au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705800" cy="527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cation téléphonique sous 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496360" cy="514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port d’une image en MPE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137440" cy="42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t MPE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582560"/>
            <a:ext cx="8424720" cy="45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applications P2P (Peer-to-Peer) travaillent dans un mode client/client et non plus client/serveur : tout utilisateur peut être à la fois client et serv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décentralis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que client correspond directement avec un petit nombre d’utilisateurs qui eux-mêmes correspondent à d’autres utilisate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re de connex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23:47:21Z</dcterms:created>
  <dc:creator> Guy Pujolle</dc:creator>
  <dc:description/>
  <dc:language>en-US</dc:language>
  <cp:lastModifiedBy>SULPICE</cp:lastModifiedBy>
  <dcterms:modified xsi:type="dcterms:W3CDTF">2004-05-26T15:32:32Z</dcterms:modified>
  <cp:revision>12</cp:revision>
  <dc:subject/>
  <dc:title>Cours 12</dc:title>
</cp:coreProperties>
</file>